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80B-AB12-4996-9033-DB64C1EC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D4B-17D2-45D1-AC2C-C26FDF71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1A6-B3F3-4CBB-BA4B-BAA62798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ADF-5851-47B1-9D35-D45DD069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9FA0-45E1-442D-AEB6-605BF905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859D-7DCA-4F55-A4A4-4F07BC24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17E8-6B0B-43BD-96BE-45E223AF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7CA8-10FB-4A75-AC2C-EA7BAB07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BC27-F02D-44F6-9A06-AE65DAB2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119B-D4DA-4EA4-A7CB-B45E2FD9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141D-3703-4C5F-BF91-F6C89F98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700-014F-416D-ADE0-C4DDB10F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8102-0D62-4BAD-B641-7C716E91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0A1A-E31B-4AAF-B590-0497727D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1FAC-C03D-47AC-B538-2EBF098F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3A78-F71E-4DEF-A301-8A79F9C5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AA0A-14BC-489C-AA19-BBC0B15B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932-9356-40BA-B080-D51449DE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236-2514-4581-BA03-DAB54C90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C2B-9444-413B-8FCF-8F6876B8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906-7123-4743-A302-EC9B7965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9B4A-0FBE-4C26-A947-81E98EF7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731-6C4C-4A7A-8193-AC201AF8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40E-E1BE-40F3-B61B-B13B8AEB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7997-5F63-468F-9DFE-994607D42E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E13F-F60F-4AB7-B490-DC8B1A934C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utomotive.com/2009/12/mercedes-benz/slk-class/photos/index.htm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starpulse.com/Music/T.I./gallery/ti-music-w04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fred Darby Jr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4191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ABOUT 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N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ENJOYED 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6000" y="2362320"/>
            <a:ext cx="48769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tz Ov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5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’m good 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asketbal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xt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eing m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4267080"/>
            <a:ext cx="1822680" cy="1752840"/>
          </a:xfrm>
          <a:prstGeom prst="rect">
            <a:avLst/>
          </a:prstGeom>
          <a:ln w="0">
            <a:noFill/>
          </a:ln>
        </p:spPr>
      </p:pic>
    </p:spTree>
  </p:cSld>
  <p:transition advTm="15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y favorite websites a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yspace. co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Youtube. co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Yahoo. Co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3isback. co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y favorite fo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rawfis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izz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ork chop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ar-b-q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umbo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ili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y favorite teach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rs. Jon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ach Boutt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rs. Yo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rs. Webb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I could I woul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ve in Dallas or Louisia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t go to schoo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uy everything out of the mal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10 years 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uld be in Dallas or Louisian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e a mechanic or engine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ill own something (ex. car or house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3505320"/>
            <a:ext cx="2819520" cy="1761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NBA.com Home"/>
          <p:cNvPicPr/>
          <p:nvPr/>
        </p:nvPicPr>
        <p:blipFill>
          <a:blip r:embed="rId3"/>
          <a:stretch/>
        </p:blipFill>
        <p:spPr>
          <a:xfrm>
            <a:off x="990720" y="3581280"/>
            <a:ext cx="1066680" cy="493920"/>
          </a:xfrm>
          <a:prstGeom prst="rect">
            <a:avLst/>
          </a:prstGeom>
          <a:ln w="0">
            <a:noFill/>
          </a:ln>
        </p:spPr>
      </p:pic>
    </p:spTree>
  </p:cSld>
  <p:transition advTm="15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y favorite Artis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rtis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il Way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Z-r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Kayne We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.I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a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891040" y="1752480"/>
            <a:ext cx="2833920" cy="4219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i-music-w0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2666880"/>
            <a:ext cx="2673360" cy="3310200"/>
          </a:xfrm>
          <a:prstGeom prst="rect">
            <a:avLst/>
          </a:prstGeom>
          <a:ln w="0">
            <a:noFill/>
          </a:ln>
        </p:spPr>
      </p:pic>
    </p:spTree>
  </p:cSld>
  <p:transition advTm="15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thlet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thle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-Mac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Kobe Bryant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ebron Jam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wight Howar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rrell Owen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.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Kobe Bryant celebrates the team USA gold medal win.jpg"/>
          <p:cNvPicPr/>
          <p:nvPr/>
        </p:nvPicPr>
        <p:blipFill>
          <a:blip r:embed="rId1"/>
          <a:stretch/>
        </p:blipFill>
        <p:spPr>
          <a:xfrm>
            <a:off x="3657600" y="1752480"/>
            <a:ext cx="2847960" cy="4267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mcgrady_playfilegallery1.jpg"/>
          <p:cNvPicPr/>
          <p:nvPr/>
        </p:nvPicPr>
        <p:blipFill>
          <a:blip r:embed="rId2"/>
          <a:stretch/>
        </p:blipFill>
        <p:spPr>
          <a:xfrm>
            <a:off x="6553080" y="3200400"/>
            <a:ext cx="2286000" cy="2857680"/>
          </a:xfrm>
          <a:prstGeom prst="rect">
            <a:avLst/>
          </a:prstGeom>
          <a:ln w="0">
            <a:noFill/>
          </a:ln>
        </p:spPr>
      </p:pic>
    </p:spTree>
  </p:cSld>
  <p:transition advTm="15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30:56Z</dcterms:created>
  <dc:creator>046student</dc:creator>
  <dc:description/>
  <dc:language>en-US</dc:language>
  <cp:lastModifiedBy>046student</cp:lastModifiedBy>
  <dcterms:modified xsi:type="dcterms:W3CDTF">2008-10-31T15:40:13Z</dcterms:modified>
  <cp:revision>9</cp:revision>
  <dc:subject/>
  <dc:title>Alfred Darby Jr.</dc:title>
</cp:coreProperties>
</file>